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3C1-38C1-46FB-B899-6CF9391D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CEC-7DEF-4A88-BAF5-89831B9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53C-057D-4743-9AF0-F9F05959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35F-14E0-4216-A61F-879743E7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0A8-28C4-40D5-8ED4-88F1B3C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082-0D2F-41B2-8FAC-6E2223E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75A-CF47-48B7-B57A-3FAF47C7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AC7-65B3-48A3-B611-8A5F7B7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5FE-6F0A-4DB5-BEC0-53EB3479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49B-C446-432A-80CD-49A11BD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D27-D180-4DA8-8ABB-E0E9866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794-EB79-4385-91ED-D59118F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EFC-946C-464D-A130-CD03B3F7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THESIS STAT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at is a Thesis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statemen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idea being put forth i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thesis statement MU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only 1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 your introduction (usually it is the last line of your in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opinion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ke your reader go “Dahhhh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are thesis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mmigrant should be able to become a U.S. citi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Obama took office in January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Sponge Bob is stup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is better tha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 kicks off their next space shuttle in Octo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on 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Geiman is the best teacher in B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 After school suspensions are a waste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4:17:57Z</dcterms:created>
  <dc:creator>BPS</dc:creator>
  <dc:description/>
  <dc:language>en-US</dc:language>
  <cp:lastModifiedBy>BPS</cp:lastModifiedBy>
  <dcterms:modified xsi:type="dcterms:W3CDTF">2009-09-29T14:32:42Z</dcterms:modified>
  <cp:revision>2</cp:revision>
  <dc:subject/>
  <dc:title>THESIS STATEMENTS</dc:title>
</cp:coreProperties>
</file>